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A1C-CDC4-4873-91BF-DA2BAB93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0C7-7169-48AF-B197-57248630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E90-6BB7-480B-ACF8-BF745ABD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D2A-31F5-4862-B3E1-86B9F13E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F6E-B56E-4FE5-B886-A39F7ADA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C7A-D57B-4D70-9FC3-4A3C67BC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7AA-16FF-431B-B130-3812C14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64F-8099-441E-8F64-E0FF2460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5E1-C725-4ED0-B2D1-C5342AAC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521-D6F4-414A-B583-47CB59A1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EA0-5122-4518-A763-73C3FB34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B8E-6FB6-4F35-8FD1-F75F1DD5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56BD390-4A52-4067-B6A2-424E47333448}" type="slidenum">
              <a:rPr b="0" lang="bg-BG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hyperlink" Target="http://www.eufunds.bg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7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"/>
          <p:cNvPicPr/>
          <p:nvPr/>
        </p:nvPicPr>
        <p:blipFill>
          <a:blip r:embed="rId3"/>
          <a:stretch/>
        </p:blipFill>
        <p:spPr>
          <a:xfrm>
            <a:off x="8228160" y="6164280"/>
            <a:ext cx="934920" cy="56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"/>
          <p:cNvPicPr/>
          <p:nvPr/>
        </p:nvPicPr>
        <p:blipFill>
          <a:blip r:embed="rId4"/>
          <a:stretch/>
        </p:blipFill>
        <p:spPr>
          <a:xfrm>
            <a:off x="9371160" y="6300720"/>
            <a:ext cx="1160280" cy="425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760400" y="3516480"/>
            <a:ext cx="73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ГОДИШЕН ДОКЛА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400" spc="-1" strike="noStrike">
                <a:solidFill>
                  <a:srgbClr val="f58220"/>
                </a:solidFill>
                <a:latin typeface="Calibri"/>
              </a:rPr>
              <a:t>ЗА ИЗПЪЛНЕНИЕ НА ОПТП за 2012 г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5"/>
          <a:stretch/>
        </p:blipFill>
        <p:spPr>
          <a:xfrm>
            <a:off x="3971880" y="1508040"/>
            <a:ext cx="2959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898720" y="1376280"/>
            <a:ext cx="741672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2011 г. стартира изпълнението от УО на проект „Извършване на средно-срочна (междинна) оценка на ОПТП (проект № 0089-УО-1.4)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в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 изпълнение изискванията на чл. 48 (1) от Регламент (ЕО) №1083/2006 и Плана за оценка на ОПТП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08.08.2012 г. - сключен договор с ЕКОРИС САУТ ИЙСТ ЮРОП ЕООД за извършване на средно-срочна  оценка на ОПТП /вследствие на проведена процедура за избор на външен изпълнител по реда на ЗОП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10.12.2012 г. - предаден проект на окончателен докла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На 21.12.2012 г. - УО изпрати своите коментар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В началото на 2013 г. окончателният доклад е одобрен от УО. Той подкрепя инициираните действия от страна на УО за промяна на програмата от месец Ноември 2012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НФОРМАЦИЯ И ПУБЛИЧ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422440" y="1039680"/>
            <a:ext cx="81806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динен информационен портал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eufunds.bg</a:t>
            </a:r>
            <a:r>
              <a:rPr b="1" i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– създадени самостоятелни страници за всеки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 създадена информационна среда за обмен на информация между ОИЦ, ЦИКО и ЦИО в реално врем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интерактивна административна карта на България с хиперлинкове към 28-те ОИЦ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купен самостоятелен сървър за хостване на порт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изградена система за управление на банер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създадена секция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cial Media Newsroom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нова подстраница  „Нов програмен период 2014-2020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преводи на английската секц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актуализиране на профилите в социалните мреж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cebook, twitter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 Tub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централно ниво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Междуведомствена работна група на служителите по информация и публичност на оперативните програм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преведе 4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аседан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формационна мрежа на местно ниво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27-те ОИЦ в страната, към края на 2012 г.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727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етители са потърсили информация, регистр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0 00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итвания в мрежата; организирани са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919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нформационни събития с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26 38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астници и са направени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5 953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убликации в медии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Централен информационен и координационен офис (ЦИКО)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л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8 специализирани обучения, 2 координационни срещи, 5 учебни посещения за обмяна на опит,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съответно в Брюксел, Латвия и Полш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 служителите в ОИЦ. Служители на ЦИКО са направили над 200 посещения в ОИЦ. 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рия от публични представяния на центровете по места съвместно с министъра по управление на средствата от ЕС и представители от 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вропейски информационни мреж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периода 10 и 11 май 2012 г. във Варшава се проведе Деветата официална среща на членовете на мрежата ИНФОРМ на ГД „Регионална и урбанистична политика” на ЕК – участваха 4 представители от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ъбития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Близо 70 събития сред коит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Второ 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ложение „Европа за нас” –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юни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012 г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3 обучения на бенефициентите по ОПТП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ционален конкурс за детска рисунка „Как искам Европейският съюз да промени моя град”, Работни посещения на министъра и представители на ЕК в ОИЦ и д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ОПТП (КН на ОПТП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сето редовно заседание на КН на ОПТП на 18.06.2012 г. 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динадесето редовно заседание на КН на ОПТП. На 27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митет за наблюдение на НСРР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едмо заседание на 16.11.2012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6960" cy="242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144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3"/>
          <p:cNvSpPr/>
          <p:nvPr/>
        </p:nvSpPr>
        <p:spPr>
          <a:xfrm>
            <a:off x="144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85580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"/>
          <p:cNvSpPr/>
          <p:nvPr/>
        </p:nvSpPr>
        <p:spPr>
          <a:xfrm>
            <a:off x="3265200" y="51084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400" spc="-1" strike="noStrike">
                <a:solidFill>
                  <a:srgbClr val="f58220"/>
                </a:solidFill>
                <a:latin typeface="Calibri"/>
              </a:rPr>
              <a:t>БЛАГОДАРЯ ЗА ВНИМАНИЕ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1" descr="\\Cm_ldb\optp-docs\INFORMATION&amp;PUBLICITY\00_OPTA_Visual Identity\pics\no marks\cub7.png"/>
          <p:cNvPicPr/>
          <p:nvPr/>
        </p:nvPicPr>
        <p:blipFill>
          <a:blip r:embed="rId3"/>
          <a:stretch/>
        </p:blipFill>
        <p:spPr>
          <a:xfrm>
            <a:off x="4087800" y="1116000"/>
            <a:ext cx="2521080" cy="238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" descr=""/>
          <p:cNvPicPr/>
          <p:nvPr/>
        </p:nvPicPr>
        <p:blipFill>
          <a:blip r:embed="rId4"/>
          <a:stretch/>
        </p:blipFill>
        <p:spPr>
          <a:xfrm>
            <a:off x="4608360" y="4140360"/>
            <a:ext cx="147960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682720" y="114624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оговорени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 средства – 82 101 043,92 лв.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или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73,8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Реално изплатени средства – 37 812 367,62 лв. -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34,03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40404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Сертифицирани средства – 25 318 629,10 лв. – </a:t>
            </a: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22,78 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c000"/>
              </a:buClr>
              <a:buFont typeface="Calibri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pic>
        <p:nvPicPr>
          <p:cNvPr id="56" name="Chart 11" descr=""/>
          <p:cNvPicPr/>
          <p:nvPr/>
        </p:nvPicPr>
        <p:blipFill>
          <a:blip r:embed="rId4"/>
          <a:stretch/>
        </p:blipFill>
        <p:spPr>
          <a:xfrm>
            <a:off x="666720" y="2771640"/>
            <a:ext cx="4446720" cy="3673440"/>
          </a:xfrm>
          <a:prstGeom prst="rect">
            <a:avLst/>
          </a:prstGeom>
          <a:ln w="0">
            <a:noFill/>
          </a:ln>
        </p:spPr>
      </p:pic>
      <p:pic>
        <p:nvPicPr>
          <p:cNvPr id="57" name="Chart 12" descr=""/>
          <p:cNvPicPr/>
          <p:nvPr/>
        </p:nvPicPr>
        <p:blipFill>
          <a:blip r:embed="rId5"/>
          <a:stretch/>
        </p:blipFill>
        <p:spPr>
          <a:xfrm>
            <a:off x="5318280" y="2771640"/>
            <a:ext cx="4781520" cy="3673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921320" y="6437160"/>
            <a:ext cx="176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на ОПТП в л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6684840" y="6437160"/>
            <a:ext cx="253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Изпълнение в процентно съотнош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06360" y="2941560"/>
            <a:ext cx="1015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886120" y="115416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1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дпомагане реализирането на дейностите на структурите на централно и местно ниво. Мерки за изграждане на капацитета на институциите, работещи по Структурните фондове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1" descr=""/>
          <p:cNvPicPr/>
          <p:nvPr/>
        </p:nvPicPr>
        <p:blipFill>
          <a:blip r:embed="rId4"/>
          <a:stretch/>
        </p:blipFill>
        <p:spPr>
          <a:xfrm>
            <a:off x="162000" y="2700360"/>
            <a:ext cx="4786200" cy="3960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4986360" y="2556000"/>
            <a:ext cx="5423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Текучеството на персонала сред бенефициентите за 2012 г. 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14,46 %., т.е е намаляло спрямо нивата от 2011 г. (16,33%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Дейности  з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бучения, семинари, заседания, срещи за обмяна на опит и други подобни мерки за изграждане и укрепване на административния капацитет на централно ниво се изпълняваха успешно и през 2012 г. с висока степен на удоволетвореност  (над 90 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а проведени и посетени 129 различни обучителни курсове и семинари в областта на регионалната политика на ЕС и управлението на СКФ. Обучени са 296 служители на централната администрация, участващи в процесите по управление, координация и контрол на структурните инструменти в Българ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898720" y="1116000"/>
            <a:ext cx="74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2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Допълнително разработване и подпомагане на функциите на ИСУН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08400" y="2506680"/>
            <a:ext cx="54230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о приоритетна ос две се изпълняват проектите на бенефициента ЦКЗ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оддържане и обновяване на информационната среда за работа на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Осигуряване на развитието и функционирането на ИСУН”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1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„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Разширяване функционалността на Информационната система за управление и наблюдение средствата от ЕС (ИСУН) чрез разработване 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илагане на Географска информационна система (ГИС)”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то на проект „Създаване и поддръжка на помощна система (Help Desk) за потребителите на ИСУН“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4"/>
          <a:stretch/>
        </p:blipFill>
        <p:spPr>
          <a:xfrm>
            <a:off x="378000" y="2556000"/>
            <a:ext cx="46083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898720" y="6048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ОБЩ НАПРЕДЪК ПО ОПТП КЪМ 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.12.201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959200" y="11890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 3 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„Популяризиране на европейската кохезионна </a:t>
            </a:r>
            <a:r>
              <a:rPr b="1" lang="ru-RU" sz="1800" spc="-1" strike="noStrike">
                <a:solidFill>
                  <a:srgbClr val="595959"/>
                </a:solidFill>
                <a:latin typeface="Calibri"/>
              </a:rPr>
              <a:t>политика и нейните цели в България и осигуряване на обща и статистическа информация</a:t>
            </a: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491080" y="2771640"/>
            <a:ext cx="4905360" cy="38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приключи изпълнението на проект на бенефициента ЦКЗ „Подпомагане на цялостния процес по изработване на новите програмни стратегически документи на Република България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зпълнението на проект на бенефициента ЦКЗ „Документален фонд на оперативните програми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През 2012 г. стартира и изпълението на проект на бенефициента ЦИО „Популяризиране на добри практики по Оперативните програми, съфинансирани от Структурните фондове и Кохезионния фонд на Европейския съюз, и подготовката на програмен период 2014-2020 г.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2" descr=""/>
          <p:cNvPicPr/>
          <p:nvPr/>
        </p:nvPicPr>
        <p:blipFill>
          <a:blip r:embed="rId4"/>
          <a:stretch/>
        </p:blipFill>
        <p:spPr>
          <a:xfrm>
            <a:off x="306360" y="2629080"/>
            <a:ext cx="518472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ДЕНТИФИЦИРАНИ СЪЩЕСТВЕНИ ПРОБЛЕ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 ПРЕДПРИЕТИ МЕРКИ ЗА РЕШАВАНЕТО 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306360" y="2629080"/>
            <a:ext cx="2136960" cy="1223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Организиране и провеждане на обществените поръ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12"/>
          <p:cNvSpPr/>
          <p:nvPr/>
        </p:nvSpPr>
        <p:spPr>
          <a:xfrm>
            <a:off x="306360" y="3997440"/>
            <a:ext cx="2133720" cy="14698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Повтарящи се пропуски по отношение на отчитането на разход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13"/>
          <p:cNvSpPr/>
          <p:nvPr/>
        </p:nvSpPr>
        <p:spPr>
          <a:xfrm>
            <a:off x="306360" y="5629320"/>
            <a:ext cx="2131920" cy="11034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навременно изпълнение на дейностите по проект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5"/>
          <p:cNvSpPr/>
          <p:nvPr/>
        </p:nvSpPr>
        <p:spPr>
          <a:xfrm>
            <a:off x="3402000" y="1332000"/>
            <a:ext cx="712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 на предварителен контрол на документаци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обществени поръчки по проекти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6"/>
          <p:cNvSpPr/>
          <p:nvPr/>
        </p:nvSpPr>
        <p:spPr>
          <a:xfrm>
            <a:off x="3402000" y="2079720"/>
            <a:ext cx="7129440" cy="83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Регулярни срещи с бенефициенти, за обсъждане 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облеми при изпълнение на проектите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ъзможности за тяхното разрешава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7"/>
          <p:cNvSpPr/>
          <p:nvPr/>
        </p:nvSpPr>
        <p:spPr>
          <a:xfrm>
            <a:off x="3402000" y="3060720"/>
            <a:ext cx="7129440" cy="63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звършени модификации по конкретни проек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птимизиране на дейности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3402000" y="3852720"/>
            <a:ext cx="7129440" cy="528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скорен процесът на верификация на разходите в УО на ОПТ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9"/>
          <p:cNvSpPr/>
          <p:nvPr/>
        </p:nvSpPr>
        <p:spPr>
          <a:xfrm>
            <a:off x="3402000" y="4500720"/>
            <a:ext cx="7129440" cy="99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зготвя регулярно искания за средства към НФ с оглед ускоряване процеса на възстановяване на средствата към бенефициентит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20"/>
          <p:cNvSpPr/>
          <p:nvPr/>
        </p:nvSpPr>
        <p:spPr>
          <a:xfrm>
            <a:off x="3402000" y="5580000"/>
            <a:ext cx="712944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УО на ОПТП идентифицира нов кръг от бенефициен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нициира прехвърляне на средства между ПО на програм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о този начин осигурява необходимия финансов ресурс за новите бенефициенти и договаряне на целия ресурс по ОП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66"/>
          <p:cNvCxnSpPr>
            <a:endCxn id="100" idx="1"/>
          </p:cNvCxnSpPr>
          <p:nvPr/>
        </p:nvCxnSpPr>
        <p:spPr>
          <a:xfrm flipV="1">
            <a:off x="2445840" y="1654920"/>
            <a:ext cx="956520" cy="1724760"/>
          </a:xfrm>
          <a:prstGeom prst="straightConnector1">
            <a:avLst/>
          </a:prstGeom>
          <a:ln w="1908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07" name="Straight Arrow Connector 68"/>
          <p:cNvCxnSpPr>
            <a:stCxn id="99" idx="3"/>
            <a:endCxn id="103" idx="1"/>
          </p:cNvCxnSpPr>
          <p:nvPr/>
        </p:nvCxnSpPr>
        <p:spPr>
          <a:xfrm flipV="1">
            <a:off x="2437920" y="4115520"/>
            <a:ext cx="964440" cy="20660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08" name="Straight Arrow Connector 71"/>
          <p:cNvCxnSpPr>
            <a:endCxn id="101" idx="1"/>
          </p:cNvCxnSpPr>
          <p:nvPr/>
        </p:nvCxnSpPr>
        <p:spPr>
          <a:xfrm flipV="1">
            <a:off x="2461680" y="2496600"/>
            <a:ext cx="940680" cy="220752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09" name="Straight Arrow Connector 72"/>
          <p:cNvCxnSpPr>
            <a:stCxn id="99" idx="3"/>
            <a:endCxn id="102" idx="1"/>
          </p:cNvCxnSpPr>
          <p:nvPr/>
        </p:nvCxnSpPr>
        <p:spPr>
          <a:xfrm flipV="1">
            <a:off x="2437920" y="3378960"/>
            <a:ext cx="964440" cy="280260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0" name="Straight Arrow Connector 68"/>
          <p:cNvCxnSpPr>
            <a:stCxn id="99" idx="3"/>
          </p:cNvCxnSpPr>
          <p:nvPr/>
        </p:nvCxnSpPr>
        <p:spPr>
          <a:xfrm flipV="1">
            <a:off x="2438280" y="2496240"/>
            <a:ext cx="936000" cy="36853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1" name="Straight Arrow Connector 68"/>
          <p:cNvCxnSpPr>
            <a:stCxn id="99" idx="3"/>
          </p:cNvCxnSpPr>
          <p:nvPr/>
        </p:nvCxnSpPr>
        <p:spPr>
          <a:xfrm flipV="1">
            <a:off x="2438280" y="5029920"/>
            <a:ext cx="936000" cy="115164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2" name="Straight Arrow Connector 68"/>
          <p:cNvCxnSpPr>
            <a:stCxn id="99" idx="3"/>
            <a:endCxn id="105" idx="1"/>
          </p:cNvCxnSpPr>
          <p:nvPr/>
        </p:nvCxnSpPr>
        <p:spPr>
          <a:xfrm flipV="1">
            <a:off x="2437920" y="6156000"/>
            <a:ext cx="964440" cy="25920"/>
          </a:xfrm>
          <a:prstGeom prst="straightConnector1">
            <a:avLst/>
          </a:prstGeom>
          <a:ln w="1908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3" name="Straight Arrow Connector 71"/>
          <p:cNvCxnSpPr>
            <a:endCxn id="103" idx="1"/>
          </p:cNvCxnSpPr>
          <p:nvPr/>
        </p:nvCxnSpPr>
        <p:spPr>
          <a:xfrm flipV="1">
            <a:off x="2422080" y="4117320"/>
            <a:ext cx="980280" cy="587880"/>
          </a:xfrm>
          <a:prstGeom prst="straightConnector1">
            <a:avLst/>
          </a:prstGeom>
          <a:ln w="19080">
            <a:solidFill>
              <a:srgbClr val="4bacc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1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052720" y="7121520"/>
            <a:ext cx="69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593640" y="2151000"/>
            <a:ext cx="979488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ffc000"/>
                </a:solidFill>
                <a:latin typeface="Calibri"/>
              </a:rPr>
              <a:t>ОДИТИ НА СИСТЕМ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- извършен от ИА ”ОСЕС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о ОПТП за оценка на Ключово изискване 7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Предприемане на превантивни и коригиращи действия в случай на установени при изпълнени одити системни грешки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Оценката по целите на одитния ангажимент е 2 </a:t>
            </a:r>
            <a:r>
              <a:rPr b="0" i="1" lang="bg-BG" sz="1600" spc="-1" strike="noStrike">
                <a:solidFill>
                  <a:srgbClr val="7f7f7f"/>
                </a:solidFill>
                <a:latin typeface="Calibri"/>
              </a:rPr>
              <a:t>„Работи, но са необходими някои подобрения”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7f7f7f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3 констатации и препоръки по тях, от които една със средно и две с ниско ниво на значимос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Четвъртият системен одит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е извършен в периода септември 2012 – януари 2013 г, като докладите (предварителен и окончателен) са изготвени и предоставени на УО на ОПТП през 2013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186000" y="68436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ОДИТИ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Calibri"/>
              </a:rPr>
              <a:t>И ПРОВЕРКИ НА МЯ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500040" y="255600"/>
            <a:ext cx="2352600" cy="2494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3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"/>
          <p:cNvSpPr/>
          <p:nvPr/>
        </p:nvSpPr>
        <p:spPr>
          <a:xfrm>
            <a:off x="593640" y="4529160"/>
            <a:ext cx="97218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cccc00"/>
                </a:solidFill>
                <a:latin typeface="Calibri"/>
              </a:rPr>
              <a:t>ОДИТ НА ОПЕРАЦИИТЕ </a:t>
            </a: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- извършен от ИА ”ОСЕ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1600" spc="-1" strike="noStrike">
                <a:solidFill>
                  <a:srgbClr val="7f7f7f"/>
                </a:solidFill>
                <a:latin typeface="Calibri"/>
              </a:rPr>
              <a:t>Третият одит на операциите </a:t>
            </a: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за увереност че разходите, декларирани пред ЕК /1.01.2011 – 31.12.2011/ са верни и транзакциите са законосъобразни и редов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593640" y="5543640"/>
            <a:ext cx="9794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ПРОВЕРКИ НА МЯСТО НА СЕРТИФИЦИРАЩИЯ ОРГ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7f7f7f"/>
                </a:solidFill>
                <a:latin typeface="Calibri"/>
              </a:rPr>
              <a:t>Проверки на място на Сертифициращия орган по верифицираните разходи от УО през 2012 г. – констатирани пропуски по прилагането на ЗОП и такива от организационен характер. Наложени финансови корекции и утвърдени изменения в Процедурния наръчник на ОПТП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ИЗМЕНЕНИЕ В КОНТЕКСТА/СЪЩНОСТ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НА ИЗПЪЛНЕНИЕТО НА ОПЕРАТИВНАТА ПРОГРА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2898720" y="1663560"/>
            <a:ext cx="7561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ДОБРЕНО ПРЕДЛОЖЕНИЕ ЗА ИЗМЕНЕНИЕ НА </a:t>
            </a:r>
            <a:r>
              <a:rPr b="1" lang="bg-BG" sz="1600" spc="-1" strike="noStrike">
                <a:solidFill>
                  <a:srgbClr val="cccc00"/>
                </a:solidFill>
                <a:latin typeface="Calibri"/>
                <a:ea typeface="Arial"/>
              </a:rPr>
              <a:t>ОПТП /</a:t>
            </a:r>
            <a:r>
              <a:rPr b="1" lang="ru-RU" sz="1600" spc="-1" strike="noStrike">
                <a:solidFill>
                  <a:srgbClr val="cccc00"/>
                </a:solidFill>
                <a:latin typeface="Calibri"/>
                <a:ea typeface="Arial"/>
              </a:rPr>
              <a:t>ЕДИНАДЕСЕТО РЕДОВНО ЗАСЕДАНИЕ НА КН НА ОПТП - 27.11.2012 г.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1</a:t>
            </a:r>
            <a:r>
              <a:rPr b="1" i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. Прехвърляне на средства между осите на ОПТП, 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с цел осигуряване на финансов ресурс за изпълнението на проектите по ПО 1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7 151 887,77 лв. от ПО 2 в ПО 1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Прехвърляне на средства в размер на 1 885 704,45 лв. от ПО 3 в ПО 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2. Определяне на допълнителни конкретни бенефициенти по ПО 1 и създадаване на нови мерки на подкрепа 10 и 11 за тях</a:t>
            </a:r>
            <a:r>
              <a:rPr b="1" i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:</a:t>
            </a:r>
            <a:r>
              <a:rPr b="1" i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Националното сдружение на общините в Република България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595959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  <a:ea typeface="Arial"/>
              </a:rPr>
              <a:t>Д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рекция „Финанси на реалния сектор” в Министерството на финансит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В програмния документ са отразени необходимите проме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Arial"/>
              </a:rPr>
              <a:t>Искането за изменение на ОПТП е изпратено на 13.02.2013 г. до Европейската комисия чрез системата SFC 2007. Очаква се одобрението от страна на 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85" t="6710" r="0" b="0"/>
          <a:stretch/>
        </p:blipFill>
        <p:spPr>
          <a:xfrm>
            <a:off x="4680" y="-36360"/>
            <a:ext cx="10688760" cy="24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877080"/>
            <a:ext cx="10693440" cy="66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2"/>
          <p:cNvSpPr/>
          <p:nvPr/>
        </p:nvSpPr>
        <p:spPr>
          <a:xfrm>
            <a:off x="4680" y="6943680"/>
            <a:ext cx="10692000" cy="631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2052720" y="712152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alibri"/>
              </a:rPr>
              <a:t>www.eufunds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306360" y="2916360"/>
            <a:ext cx="1015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4" descr="3d render of circular progress bars. Financial business stats Stock Photo - 12078518"/>
          <p:cNvPicPr/>
          <p:nvPr/>
        </p:nvPicPr>
        <p:blipFill>
          <a:blip r:embed="rId3"/>
          <a:stretch/>
        </p:blipFill>
        <p:spPr>
          <a:xfrm>
            <a:off x="593640" y="61596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2898720" y="6048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ПРЕДПРИЕТИ ДЕЙСТВИЯ ЗА ИЗВЪРШВАНЕ НА МОНИТОР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2825640" y="1312920"/>
            <a:ext cx="763452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800" spc="-1" strike="noStrike">
                <a:solidFill>
                  <a:srgbClr val="595959"/>
                </a:solidFill>
                <a:latin typeface="Calibri"/>
              </a:rPr>
              <a:t>УО на ОПТП осъществява мониторинг на изпълнението на проектите на базата на регулярно докладване за напредъка от страна на бенефициентите на всяко календарно тримесеч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личие на значителни закъснения и неспособност за реализация на проектите в предвидените срокове</a:t>
            </a: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Проверката на напредъка по проектите е да се установят своевременно потенциални или възникнали рискове и проблем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вършени 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37 проверки „на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място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", при които не са констатирани нередност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</a:t>
            </a:r>
            <a:r>
              <a:rPr b="1" lang="ru-RU" sz="1600" spc="-1" strike="noStrike">
                <a:solidFill>
                  <a:srgbClr val="595959"/>
                </a:solidFill>
                <a:latin typeface="Calibri"/>
              </a:rPr>
              <a:t>звършени общо 16 проверки „на място” при бенефициенти общини, 12 от които са извършени след приключване на строително монтажните работи в областните информационни центро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нформацията, събрана и проверена от УО на проектно ниво се въвежда в ИСУН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Използваната система LOTHAR дава възможност за своевременно предприемане на корективни мерки при проблеми в изпълнениет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595959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600" spc="-1" strike="noStrike">
                <a:solidFill>
                  <a:srgbClr val="595959"/>
                </a:solidFill>
                <a:latin typeface="Calibri"/>
              </a:rPr>
              <a:t>Наблюдението на ОПТП се осъществява оперативно в партньорство със Съвета за координация при управлението на средствата от ЕС и с членовете на КН на ОПТП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56:03Z</dcterms:created>
  <dc:creator>Емилия Герджикова</dc:creator>
  <dc:description/>
  <dc:language>en-US</dc:language>
  <cp:lastModifiedBy>Емилия Герджикова</cp:lastModifiedBy>
  <dcterms:modified xsi:type="dcterms:W3CDTF">2013-05-10T14:06:22Z</dcterms:modified>
  <cp:revision>171</cp:revision>
  <dc:subject/>
  <dc:title>PowerPoint Presentation</dc:title>
</cp:coreProperties>
</file>